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we do not separate content feedback and process feedback, we are doing it here to focus your attention specifically on the difference between the two forms of descrip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nd talk to your elbow partner about any processes you are not very clear ab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ctions are they meant to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A65A-79C6-4EC0-AE35-B080D50E2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741F-FC64-4884-8A95-BB6CF898F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776A-080A-43E3-9913-695CBFAC3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1B40-9881-4FB2-9E1B-EDD3D06743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239D-DDAF-48CC-A278-FEB26D38DD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E890-16D8-4419-AA77-63B44620E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E53F-B780-48C5-BFAF-00D797CEC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6A93-7C89-4750-B11E-74519EA44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5C3A-445F-44E9-B04B-84904308C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AFD0-A93C-4052-882E-CB5C32A52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EA1F-C591-4836-9559-142D5952A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0429-FB94-4E5A-8C2D-64FD5107D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4975-3882-4C82-9B22-9F014BC5D3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-685800"/>
            <a:ext cx="9144000" cy="7543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D640-0CDA-436E-8978-1C2FFCDF17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3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8000"/>
                </a:solidFill>
                <a:latin typeface="Arial"/>
              </a:rPr>
              <a:t>Responding to Student Mathematical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49" name="Picture 11" descr="Screen shot 2011-08-08 at 3.55.10 PM.png"/>
          <p:cNvPicPr/>
          <p:nvPr/>
        </p:nvPicPr>
        <p:blipFill>
          <a:blip r:embed="rId3"/>
          <a:stretch/>
        </p:blipFill>
        <p:spPr>
          <a:xfrm>
            <a:off x="6419880" y="-685800"/>
            <a:ext cx="27241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1"/>
          <p:cNvGrpSpPr/>
          <p:nvPr/>
        </p:nvGrpSpPr>
        <p:grpSpPr>
          <a:xfrm>
            <a:off x="4952880" y="2514600"/>
            <a:ext cx="3175200" cy="3962520"/>
            <a:chOff x="4952880" y="2514600"/>
            <a:chExt cx="3175200" cy="3962520"/>
          </a:xfrm>
        </p:grpSpPr>
        <p:pic>
          <p:nvPicPr>
            <p:cNvPr id="51" name="Picture 10" descr="Screen shot 2011-08-08 at 3.51.55 PM.png"/>
            <p:cNvPicPr/>
            <p:nvPr/>
          </p:nvPicPr>
          <p:blipFill>
            <a:blip r:embed="rId4"/>
            <a:stretch/>
          </p:blipFill>
          <p:spPr>
            <a:xfrm>
              <a:off x="4952880" y="2514600"/>
              <a:ext cx="31752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Rectangle 9"/>
            <p:cNvSpPr/>
            <p:nvPr/>
          </p:nvSpPr>
          <p:spPr>
            <a:xfrm>
              <a:off x="7864560" y="2530080"/>
              <a:ext cx="228600" cy="25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amining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 at a table with another pair of 12:00 partners so there are 4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se the samples of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1 sample that the 4 of you want to talk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FAE9-9B43-4923-9DDE-CB3A3B7DCC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3886200" y="0"/>
            <a:ext cx="5257800" cy="2833560"/>
            <a:chOff x="3886200" y="0"/>
            <a:chExt cx="5257800" cy="2833560"/>
          </a:xfrm>
        </p:grpSpPr>
        <p:pic>
          <p:nvPicPr>
            <p:cNvPr id="120" name="Picture 5" descr="Screen shot 2011-08-09 at 5.33.34 AM.png"/>
            <p:cNvPicPr/>
            <p:nvPr/>
          </p:nvPicPr>
          <p:blipFill>
            <a:blip r:embed="rId1"/>
            <a:stretch/>
          </p:blipFill>
          <p:spPr>
            <a:xfrm>
              <a:off x="3886200" y="772200"/>
              <a:ext cx="1803240" cy="206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4"/>
            <p:cNvSpPr/>
            <p:nvPr/>
          </p:nvSpPr>
          <p:spPr>
            <a:xfrm>
              <a:off x="5486400" y="0"/>
              <a:ext cx="3657600" cy="1068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ind your 12:00 partner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ages in Development of Multiplicative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2187-29A3-4021-9F3C-C09B59477D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creen shot 2011-08-10 at 1.03.53 PM.png"/>
          <p:cNvPicPr/>
          <p:nvPr/>
        </p:nvPicPr>
        <p:blipFill>
          <a:blip r:embed="rId1"/>
          <a:stretch/>
        </p:blipFill>
        <p:spPr>
          <a:xfrm>
            <a:off x="380880" y="1600200"/>
            <a:ext cx="8077320" cy="2646360"/>
          </a:xfrm>
          <a:prstGeom prst="rect">
            <a:avLst/>
          </a:prstGeom>
          <a:ln w="0">
            <a:noFill/>
          </a:ln>
        </p:spPr>
      </p:pic>
      <p:pic>
        <p:nvPicPr>
          <p:cNvPr id="125" name="Content Placeholder 4" descr="Screen shot 2011-08-09 at 5.41.55 AM.png"/>
          <p:cNvPicPr/>
          <p:nvPr/>
        </p:nvPicPr>
        <p:blipFill>
          <a:blip r:embed="rId2"/>
          <a:srcRect l="0" t="134" r="0" b="134"/>
          <a:stretch/>
        </p:blipFill>
        <p:spPr>
          <a:xfrm>
            <a:off x="380880" y="3886200"/>
            <a:ext cx="8229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(in the moment) to Mathematical Cont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stages of development of 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(as a table of 4) where your                     work sample “fits” the contin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your 1 student sample write                descriptive feedback on a BLUE                           post-it note focusing o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athematical thinking you are se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your descriptive feedback on the wall on the sample of stud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0541-BF56-4390-94E5-63E394173E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creen shot 2011-08-09 at 5.48.31 AM.png"/>
          <p:cNvPicPr/>
          <p:nvPr/>
        </p:nvPicPr>
        <p:blipFill>
          <a:blip r:embed="rId1"/>
          <a:srcRect l="5961" t="6188" r="0" b="4128"/>
          <a:stretch/>
        </p:blipFill>
        <p:spPr>
          <a:xfrm>
            <a:off x="6553080" y="2438280"/>
            <a:ext cx="25909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fore Brea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lean up your tabl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any student samples not used, in the middle of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break – please wander through th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escriptive Feedback Galle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e ready to comment on what you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4B46-DC89-4266-81A8-706B4535ED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4" name="Content Placeholder 4" descr="Screen shot 2011-08-09 at 5.59.50 AM.png"/>
          <p:cNvPicPr/>
          <p:nvPr/>
        </p:nvPicPr>
        <p:blipFill>
          <a:blip r:embed="rId1"/>
          <a:srcRect l="1034" t="1447" r="1034" b="0"/>
          <a:stretch/>
        </p:blipFill>
        <p:spPr>
          <a:xfrm>
            <a:off x="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284A-CE21-4DFF-B6AE-AB7E1EB2F2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Screen shot 2011-08-10 at 5.01.45 PM.png"/>
          <p:cNvPicPr/>
          <p:nvPr/>
        </p:nvPicPr>
        <p:blipFill>
          <a:blip r:embed="rId2"/>
          <a:stretch/>
        </p:blipFill>
        <p:spPr>
          <a:xfrm>
            <a:off x="3962520" y="3124080"/>
            <a:ext cx="5251320" cy="2514600"/>
          </a:xfrm>
          <a:prstGeom prst="rect">
            <a:avLst/>
          </a:prstGeom>
          <a:ln w="0">
            <a:noFill/>
          </a:ln>
        </p:spPr>
      </p:pic>
      <p:sp>
        <p:nvSpPr>
          <p:cNvPr id="137" name="Title 1"/>
          <p:cNvSpPr/>
          <p:nvPr/>
        </p:nvSpPr>
        <p:spPr>
          <a:xfrm>
            <a:off x="533520" y="1752480"/>
            <a:ext cx="82296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ctr">
            <a:noAutofit/>
          </a:bodyPr>
          <a:p>
            <a:pPr marL="39600" indent="-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Gallery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en you return from break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46A5-28BC-44CB-9DF7-12BE48D140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creen shot 2011-08-10 at 5.01.45 PM.png"/>
          <p:cNvPicPr/>
          <p:nvPr/>
        </p:nvPicPr>
        <p:blipFill>
          <a:blip r:embed="rId1"/>
          <a:stretch/>
        </p:blipFill>
        <p:spPr>
          <a:xfrm>
            <a:off x="990720" y="1752480"/>
            <a:ext cx="6046560" cy="2895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4191120" y="4114800"/>
            <a:ext cx="365760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 down with your 3:00 partn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… over ti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A145-17CA-4002-A238-D85CA72D06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066680" y="22096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5105520" y="22096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105520" y="32767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1219320" y="32767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f7aa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5105520" y="457200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990720" y="457200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lecting tools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3124080" y="137160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100"/>
                            </p:stCondLst>
                            <p:childTnLst>
                              <p:par>
                                <p:cTn id="1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100"/>
                            </p:stCondLst>
                            <p:childTnLst>
                              <p:par>
                                <p:cTn id="1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10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 process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 has one card to describe each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ample questions and sample prompts fo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nother few processes and read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B06A-B631-4AB4-9168-EA83770EA7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Screen shot 2011-08-10 at 4.30.01 PM.png"/>
          <p:cNvPicPr/>
          <p:nvPr/>
        </p:nvPicPr>
        <p:blipFill>
          <a:blip r:embed="rId1"/>
          <a:stretch/>
        </p:blipFill>
        <p:spPr>
          <a:xfrm>
            <a:off x="6603840" y="0"/>
            <a:ext cx="254016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Right Number of Elepha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56" name="Content Placeholder 4" descr="Screen shot 2011-08-09 at 5.25.21 AM.png"/>
          <p:cNvPicPr/>
          <p:nvPr/>
        </p:nvPicPr>
        <p:blipFill>
          <a:blip r:embed="rId1"/>
          <a:srcRect l="-10789" t="0" r="-10789" b="0"/>
          <a:stretch/>
        </p:blipFill>
        <p:spPr>
          <a:xfrm>
            <a:off x="-838080" y="1600200"/>
            <a:ext cx="10896480" cy="6084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195-4968-42EC-B4ED-A38387629F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266688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 Sheppard and Felicia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57200" y="5103720"/>
            <a:ext cx="8077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m counted 10 trunks. How many legs would there be on the elephants belonging to those 10 tru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riting 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ELLOW post-it notes to write descriptive feedback to the student about the process of representing and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notes on the posted student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A699-CAAB-450D-8BEF-7B92629AAC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creen shot 2011-08-10 at 5.18.58 PM.png"/>
          <p:cNvPicPr/>
          <p:nvPr/>
        </p:nvPicPr>
        <p:blipFill>
          <a:blip r:embed="rId1"/>
          <a:stretch/>
        </p:blipFill>
        <p:spPr>
          <a:xfrm>
            <a:off x="5619600" y="2209680"/>
            <a:ext cx="35244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rtners Around the Clo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5FD9-A6CC-4F65-94E8-45E3B35B39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380880" y="137160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time to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 share a 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 write your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play this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Screen shot 2011-08-08 at 4.12.33 PM.png"/>
          <p:cNvPicPr/>
          <p:nvPr/>
        </p:nvPicPr>
        <p:blipFill>
          <a:blip r:embed="rId1"/>
          <a:stretch/>
        </p:blipFill>
        <p:spPr>
          <a:xfrm>
            <a:off x="5029200" y="137160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Content Placeholder 4" descr="Screen shot 2011-08-09 at 6.00.36 AM.png"/>
          <p:cNvPicPr/>
          <p:nvPr/>
        </p:nvPicPr>
        <p:blipFill>
          <a:blip r:embed="rId1"/>
          <a:srcRect l="1594" t="2903" r="5744" b="0"/>
          <a:stretch/>
        </p:blipFill>
        <p:spPr>
          <a:xfrm>
            <a:off x="2209680" y="1371600"/>
            <a:ext cx="5105520" cy="434340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35D8-D092-4718-91E2-13DB4BA23C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 rot="19137600">
            <a:off x="2597760" y="3225960"/>
            <a:ext cx="4419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9:00 part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 cards and Tongue depress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 process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28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and talk at your table about how effective the prompts and questions would they be with you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nother few processes and read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write prompts appropriate for K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s are for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DF02-5E60-4285-8819-95F791D8A0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Screen shot 2011-08-10 at 4.30.01 PM.png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461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Screen shot 2011-08-10 at 4.21.18 PM.png"/>
          <p:cNvPicPr/>
          <p:nvPr/>
        </p:nvPicPr>
        <p:blipFill>
          <a:blip r:embed="rId2"/>
          <a:stretch/>
        </p:blipFill>
        <p:spPr>
          <a:xfrm>
            <a:off x="5257800" y="4419720"/>
            <a:ext cx="236232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escriptive feedback about what you learn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comment on content and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0318-1861-482B-B5EA-905480D9E4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Screen shot 2011-08-10 at 5.21.05 PM.png"/>
          <p:cNvPicPr/>
          <p:nvPr/>
        </p:nvPicPr>
        <p:blipFill>
          <a:blip r:embed="rId1"/>
          <a:stretch/>
        </p:blipFill>
        <p:spPr>
          <a:xfrm>
            <a:off x="5883120" y="1295280"/>
            <a:ext cx="32608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rtners Around the Clo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F65A-CE20-4A44-A8CC-3D192CFA5B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11430000" y="15238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riend’s name and 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Screen shot 2011-08-10 at 12.54.36 PM.png"/>
          <p:cNvPicPr/>
          <p:nvPr/>
        </p:nvPicPr>
        <p:blipFill>
          <a:blip r:embed="rId1"/>
          <a:srcRect l="0" t="0" r="0" b="1563"/>
          <a:stretch/>
        </p:blipFill>
        <p:spPr>
          <a:xfrm>
            <a:off x="1457280" y="1141560"/>
            <a:ext cx="6010200" cy="48020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20"/>
          <p:cNvGrpSpPr/>
          <p:nvPr/>
        </p:nvGrpSpPr>
        <p:grpSpPr>
          <a:xfrm>
            <a:off x="2895480" y="2133720"/>
            <a:ext cx="3124440" cy="3276360"/>
            <a:chOff x="2895480" y="2133720"/>
            <a:chExt cx="3124440" cy="3276360"/>
          </a:xfrm>
        </p:grpSpPr>
        <p:sp>
          <p:nvSpPr>
            <p:cNvPr id="62" name="Oval 7"/>
            <p:cNvSpPr/>
            <p:nvPr/>
          </p:nvSpPr>
          <p:spPr>
            <a:xfrm>
              <a:off x="4114800" y="2133720"/>
              <a:ext cx="7621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1"/>
            <p:cNvSpPr/>
            <p:nvPr/>
          </p:nvSpPr>
          <p:spPr>
            <a:xfrm>
              <a:off x="2895480" y="3200400"/>
              <a:ext cx="7621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3"/>
            <p:cNvSpPr/>
            <p:nvPr/>
          </p:nvSpPr>
          <p:spPr>
            <a:xfrm>
              <a:off x="4114800" y="4648320"/>
              <a:ext cx="7621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5257800" y="3200400"/>
              <a:ext cx="7621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1"/>
          <p:cNvGrpSpPr/>
          <p:nvPr/>
        </p:nvGrpSpPr>
        <p:grpSpPr>
          <a:xfrm>
            <a:off x="4419720" y="990720"/>
            <a:ext cx="4724280" cy="3577320"/>
            <a:chOff x="4419720" y="990720"/>
            <a:chExt cx="4724280" cy="3577320"/>
          </a:xfrm>
        </p:grpSpPr>
        <p:sp>
          <p:nvSpPr>
            <p:cNvPr id="67" name="TextBox 17"/>
            <p:cNvSpPr/>
            <p:nvPr/>
          </p:nvSpPr>
          <p:spPr>
            <a:xfrm>
              <a:off x="6095880" y="3864240"/>
              <a:ext cx="26668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friend’s name and your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6"/>
            <p:cNvSpPr/>
            <p:nvPr/>
          </p:nvSpPr>
          <p:spPr>
            <a:xfrm>
              <a:off x="4419720" y="990720"/>
              <a:ext cx="4724280" cy="825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riend’s name on your clock AND your name on her cl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5"/>
          <p:cNvSpPr/>
          <p:nvPr/>
        </p:nvSpPr>
        <p:spPr>
          <a:xfrm>
            <a:off x="228600" y="1828800"/>
            <a:ext cx="44956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You need the names of 4 different people on your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4648320" y="4724280"/>
            <a:ext cx="44956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You need the names of 4 different people on your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0" y="4800600"/>
            <a:ext cx="304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ou need the names of 4 different people on your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Screen shot 2011-08-08 at 8.50.51 AM.png"/>
          <p:cNvPicPr/>
          <p:nvPr/>
        </p:nvPicPr>
        <p:blipFill>
          <a:blip r:embed="rId1"/>
          <a:stretch/>
        </p:blipFill>
        <p:spPr>
          <a:xfrm>
            <a:off x="5486400" y="-152280"/>
            <a:ext cx="3657600" cy="2722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10516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560" y="12193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understand the difference                                     between additive thinking and                            multiplicative th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use a Frayer model to define multiplicative th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examine student work and match it to the stages of multiplicative thinking ch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rite descriptive feedback on the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iscuss the processes and how they engage students in mathematical th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ecome familiar with the DI process cards and re-write prompts appropriate for students in K-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0819-4BE6-4CAD-98D8-694EBDBA9A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ad with your Elbow Partn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7" name="Content Placeholder 4" descr="Screen shot 2011-08-08 at 4.44.42 PM.png"/>
          <p:cNvPicPr/>
          <p:nvPr/>
        </p:nvPicPr>
        <p:blipFill>
          <a:blip r:embed="rId1"/>
          <a:srcRect l="-6144" t="0" r="-6144" b="0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CD99-03DF-4817-B5FA-D15F56C778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Frayer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0" name="Content Placeholder 4" descr="Screen shot 2011-08-08 at 3.47.29 PM.png"/>
          <p:cNvPicPr/>
          <p:nvPr/>
        </p:nvPicPr>
        <p:blipFill>
          <a:blip r:embed="rId1"/>
          <a:srcRect l="0" t="-5234" r="0" b="-5234"/>
          <a:stretch/>
        </p:blipFill>
        <p:spPr>
          <a:xfrm>
            <a:off x="-158760" y="685800"/>
            <a:ext cx="9302760" cy="594360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CACC-025D-45F0-B73A-C4C1B23657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809880" y="3276720"/>
            <a:ext cx="15242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/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7"/>
          <p:cNvGrpSpPr/>
          <p:nvPr/>
        </p:nvGrpSpPr>
        <p:grpSpPr>
          <a:xfrm>
            <a:off x="457200" y="1371240"/>
            <a:ext cx="8001000" cy="5258520"/>
            <a:chOff x="457200" y="1371240"/>
            <a:chExt cx="8001000" cy="5258520"/>
          </a:xfrm>
        </p:grpSpPr>
        <p:sp>
          <p:nvSpPr>
            <p:cNvPr id="84" name="Rectangle 6"/>
            <p:cNvSpPr/>
            <p:nvPr/>
          </p:nvSpPr>
          <p:spPr>
            <a:xfrm>
              <a:off x="457200" y="1600200"/>
              <a:ext cx="2286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Defini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5867640" y="1600200"/>
              <a:ext cx="25905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Characterist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>
              <a:off x="5867640" y="3962520"/>
              <a:ext cx="25905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Non-Examp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457200" y="3962520"/>
              <a:ext cx="25905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Examp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Straight Arrow Connector 11"/>
            <p:cNvCxnSpPr/>
            <p:nvPr/>
          </p:nvCxnSpPr>
          <p:spPr>
            <a:xfrm>
              <a:off x="761400" y="1371240"/>
              <a:ext cx="533880" cy="2293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</p:cxnSp>
        <p:cxnSp>
          <p:nvCxnSpPr>
            <p:cNvPr id="89" name="Straight Arrow Connector 12"/>
            <p:cNvCxnSpPr/>
            <p:nvPr/>
          </p:nvCxnSpPr>
          <p:spPr>
            <a:xfrm flipH="1">
              <a:off x="7543440" y="1371600"/>
              <a:ext cx="457920" cy="3052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</p:cxnSp>
        <p:cxnSp>
          <p:nvCxnSpPr>
            <p:cNvPr id="90" name="Straight Arrow Connector 14"/>
            <p:cNvCxnSpPr/>
            <p:nvPr/>
          </p:nvCxnSpPr>
          <p:spPr>
            <a:xfrm flipH="1">
              <a:off x="7543440" y="3809880"/>
              <a:ext cx="457920" cy="3052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</p:cxnSp>
        <p:cxnSp>
          <p:nvCxnSpPr>
            <p:cNvPr id="91" name="Straight Arrow Connector 15"/>
            <p:cNvCxnSpPr/>
            <p:nvPr/>
          </p:nvCxnSpPr>
          <p:spPr>
            <a:xfrm>
              <a:off x="761400" y="3885840"/>
              <a:ext cx="533880" cy="2293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</p:cxnSp>
        <p:cxnSp>
          <p:nvCxnSpPr>
            <p:cNvPr id="92" name="Straight Arrow Connector 16"/>
            <p:cNvCxnSpPr/>
            <p:nvPr/>
          </p:nvCxnSpPr>
          <p:spPr>
            <a:xfrm flipH="1">
              <a:off x="7543440" y="6324840"/>
              <a:ext cx="457920" cy="3052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Frayer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4" name="Content Placeholder 4" descr="Screen shot 2011-08-08 at 3.47.29 PM.png"/>
          <p:cNvPicPr/>
          <p:nvPr/>
        </p:nvPicPr>
        <p:blipFill>
          <a:blip r:embed="rId1"/>
          <a:srcRect l="0" t="-5234" r="0" b="-5234"/>
          <a:stretch/>
        </p:blipFill>
        <p:spPr>
          <a:xfrm>
            <a:off x="-158760" y="685800"/>
            <a:ext cx="930276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164C-D202-4E63-AAF6-A5B3DE78F4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886200" y="3179880"/>
            <a:ext cx="1447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5720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art of a whole, a set, or a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4572000" y="129528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wo numbers written one over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number numerator tells how many parts are being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number denominator tells how many parts in the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8"/>
          <p:cNvGrpSpPr/>
          <p:nvPr/>
        </p:nvGrpSpPr>
        <p:grpSpPr>
          <a:xfrm>
            <a:off x="5257800" y="4114800"/>
            <a:ext cx="2971800" cy="1587960"/>
            <a:chOff x="5257800" y="4114800"/>
            <a:chExt cx="2971800" cy="1587960"/>
          </a:xfrm>
        </p:grpSpPr>
        <p:sp>
          <p:nvSpPr>
            <p:cNvPr id="100" name="TextBox 12"/>
            <p:cNvSpPr/>
            <p:nvPr/>
          </p:nvSpPr>
          <p:spPr>
            <a:xfrm>
              <a:off x="5790960" y="41148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5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7543800" y="4419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4"/>
            <p:cNvSpPr/>
            <p:nvPr/>
          </p:nvSpPr>
          <p:spPr>
            <a:xfrm>
              <a:off x="5257800" y="51822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12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457200" y="3962520"/>
            <a:ext cx="3276720" cy="2166480"/>
            <a:chOff x="457200" y="3962520"/>
            <a:chExt cx="3276720" cy="2166480"/>
          </a:xfrm>
        </p:grpSpPr>
        <p:pic>
          <p:nvPicPr>
            <p:cNvPr id="104" name="Picture 10" descr="Screen shot 2011-08-08 at 4.29.46 PM.png"/>
            <p:cNvPicPr/>
            <p:nvPr/>
          </p:nvPicPr>
          <p:blipFill>
            <a:blip r:embed="rId2"/>
            <a:stretch/>
          </p:blipFill>
          <p:spPr>
            <a:xfrm>
              <a:off x="457200" y="3962520"/>
              <a:ext cx="1230480" cy="12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15"/>
            <p:cNvSpPr/>
            <p:nvPr/>
          </p:nvSpPr>
          <p:spPr>
            <a:xfrm>
              <a:off x="2895840" y="3962520"/>
              <a:ext cx="838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6"/>
            <p:cNvSpPr/>
            <p:nvPr/>
          </p:nvSpPr>
          <p:spPr>
            <a:xfrm>
              <a:off x="2057400" y="518184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6" descr="Screen shot 2011-08-09 at 11.31.12 AM.png"/>
          <p:cNvPicPr/>
          <p:nvPr/>
        </p:nvPicPr>
        <p:blipFill>
          <a:blip r:embed="rId1"/>
          <a:srcRect l="-2954" t="0" r="-2954" b="0"/>
          <a:stretch/>
        </p:blipFill>
        <p:spPr>
          <a:xfrm>
            <a:off x="0" y="1308240"/>
            <a:ext cx="8686800" cy="5549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Frayer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CF63-14CB-499E-8F17-3F7E047362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685800" y="1981080"/>
            <a:ext cx="3657600" cy="10688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e with your 6:00 part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Right Number of Elepha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12" name="Content Placeholder 4" descr="Screen shot 2011-08-09 at 5.25.21 AM.png"/>
          <p:cNvPicPr/>
          <p:nvPr/>
        </p:nvPicPr>
        <p:blipFill>
          <a:blip r:embed="rId1"/>
          <a:srcRect l="-10789" t="0" r="-10789" b="0"/>
          <a:stretch/>
        </p:blipFill>
        <p:spPr>
          <a:xfrm>
            <a:off x="-838080" y="1600200"/>
            <a:ext cx="10896480" cy="608472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463C-DEDB-46D7-8C11-9B8A45D1EC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66688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 Sheppard and Felicia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57200" y="5103720"/>
            <a:ext cx="8077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m counted 10 trunks. How many legs would there be on the elephants belonging to those 10 tru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8:43:25Z</dcterms:created>
  <dc:creator>CSC</dc:creator>
  <dc:description/>
  <cp:keywords/>
  <dc:language>en-US</dc:language>
  <cp:lastModifiedBy>Kathy Kubota-Zarivnij</cp:lastModifiedBy>
  <dcterms:modified xsi:type="dcterms:W3CDTF">2011-08-16T21:35:39Z</dcterms:modified>
  <cp:revision>36</cp:revision>
  <dc:subject/>
  <dc:title>&lt;Title&gt;</dc:title>
</cp:coreProperties>
</file>